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7017-FE88-4C09-8207-F857FC8FE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099-2F47-4FB0-80EE-36E25E3E0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24F7-76D9-4819-A3AA-B40A8003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C92-D9F4-49DB-AE53-B4D9B7C6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5E4-7D97-4832-A3C9-ADD1A6F4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04A-9DDB-47D2-824C-E8E2C588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8FA-DAF5-40BC-8D70-8D013459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60D-5916-4E4C-B5AC-5C9E7565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86F-B49F-42BB-8F08-04A35F01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CC3-4788-41AB-8635-78B86AB1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24D-29C7-482E-BFD2-400736AC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203-7936-4FCB-871C-B286780A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2DE-B43C-4054-8A4E-00D4E86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7CD-43F6-44D6-95B9-E3DE707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78B-F5CD-49F4-B155-5EE5B2F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02A9-A1E7-484D-8BDB-1C6AD751D1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685800" y="15228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 Vitamins</a:t>
            </a:r>
            <a:endParaRPr b="0" lang="en-US" sz="4400" spc="1" strike="noStrike">
              <a:ln w="1908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1066680"/>
          <a:ext cx="8777520" cy="5484960"/>
        </p:xfrm>
        <a:graphic>
          <a:graphicData uri="http://schemas.openxmlformats.org/drawingml/2006/table">
            <a:tbl>
              <a:tblPr/>
              <a:tblGrid>
                <a:gridCol w="2925720"/>
                <a:gridCol w="2926080"/>
                <a:gridCol w="2925720"/>
              </a:tblGrid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Connect the word with something in your world and discuss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cate the word in the text and read the paragraph to get context mean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Create a design that depicts the meaning if the wo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7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Make a mnemonic to remember the word and its mean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Make a word puzzle or a ga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Contrast the word with something e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ite a poem with the word, its meaning, and facts about the word.  Illustrate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Tell a story using the word three times in the pl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ach the word and its meaning in a memorable way to a classmate or family me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Explain how the word is used in the tex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vide the word into syllables.  Chant and tap the syllab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Create a song, poem, cheer or rap using the word as the top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ole play the meaning of the wo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Design a banner or flag for the wo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Sell the word by writing an advertisement for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31"/>
          <p:cNvSpPr/>
          <p:nvPr/>
        </p:nvSpPr>
        <p:spPr>
          <a:xfrm>
            <a:off x="0" y="617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609480" y="228600"/>
            <a:ext cx="7925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ocabulary Word Map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62120" y="1295280"/>
            <a:ext cx="38098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5257800" y="22096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743200" y="2590920"/>
            <a:ext cx="419112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572000" y="4038480"/>
            <a:ext cx="4572000" cy="281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609480" y="464832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609480" y="518148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609480" y="57150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609480" y="6172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57200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picture or RELATE it to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670120" y="22860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310800" y="12556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762120" y="99072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r Syn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762120" y="4114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word in a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7:44:18Z</dcterms:created>
  <dc:creator>Paula</dc:creator>
  <dc:description/>
  <dc:language>en-US</dc:language>
  <cp:lastModifiedBy>Paula</cp:lastModifiedBy>
  <dcterms:modified xsi:type="dcterms:W3CDTF">2011-09-15T20:37:12Z</dcterms:modified>
  <cp:revision>2</cp:revision>
  <dc:subject/>
  <dc:title>Slide 1</dc:title>
</cp:coreProperties>
</file>